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A771-556F-4DD6-B213-34966CB9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9D23-01D0-4557-A124-D2D75A28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34C2-3B08-4110-9327-F244B2724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4A4B-480C-402E-AC45-DC48A0BE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B361-5FB9-4C51-AF4B-BF42AAFB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2AFA-595E-4B3D-A2D0-42C00D30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46BB-08B6-4148-AC0F-C7A81E20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D230-659B-475B-B21B-54C89AFF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3A91-500E-4023-BD64-CB04A185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ABD3-BB08-4131-97A6-F5AA0E79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6882-CB02-4883-BA11-E999EAD3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0700-5BFD-47D5-B5B8-7C3D3C94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920E-62C4-4164-8E8B-5B8FE039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12C6-70FE-4F36-B86B-ED664CD2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4FF4-7229-4639-8490-9E622BFC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3250-0106-40E7-99A2-3A99BBFC9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4F10-F37B-401D-8560-9192D072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95DA-47C2-450B-AD83-FF946265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FE54-FE13-41C7-8EAE-3D22EA4C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9051-E288-40C7-9CDC-868A8132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5006-89B3-49BD-B83B-61853DB3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B4F5-7E6B-4BD8-8CAD-7488B4FA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D698-9EF6-4FBF-AF8C-B9BED45C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B446-31C9-455C-BE24-C4CE47BD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EBE4-E190-42CB-8B4C-574AD4E805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FCE3-CEA0-4255-87F6-705FD0102B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In The Days of the Judg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3, Lesson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s 12:8 – 14: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93-9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352680"/>
            <a:ext cx="7925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amson’s - Weaknesses And Strength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(Judges 14:1-20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enticed his wife to get the interpretation of the riddle, v. 15-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succ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informed the compan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gave the answer to Sam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incensed with his wife and his companions, v. 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ew 30 Philistines for their clot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nt back home to Zor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wife was given to his “best man”, v.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amson – the next lesson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 tries to get his wife 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’s vengeance on the Philist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77240" cy="6091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8195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hra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1219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48520" y="3124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mon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Jephthah’s Clash With Ephraimites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Judges 12:1-7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hraimites incensed: Jephthah did not call them to war against the Ammon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hreaten his destruction, v.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vindicates himself, v. 2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charge against the Gileadites, v.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wo adversaries fought, v.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ty-two thousand Ephraimites killed at the passages of Jordan, v. 5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phthah died; judged Israel six years, v.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387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5791320" y="762120"/>
            <a:ext cx="2057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phraim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5880" y="2286000"/>
            <a:ext cx="1600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ilea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90560" y="1295280"/>
            <a:ext cx="2971800" cy="2590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428640" y="2743200"/>
            <a:ext cx="2438280" cy="762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he Next Three Judges -</a:t>
            </a:r>
            <a:br>
              <a:rPr sz="40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Judges 12:8-15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b’zan: judged for seven years, v.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osterity and death, v. 9-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’lon: judged ten years and dies, v. 11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don: judged for eight years, v. 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osterity and death, v. 14-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 Coming Judge –</a:t>
            </a:r>
            <a:br>
              <a:rPr sz="40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Judges 13:1-25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ites - evil again - delivered into the hands of the Philistines for forty years, v.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ngel appeared to the wife of Ma’no’ah; foretells the birth of a son, v.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cted her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treat both herself and her 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e would do later in his life, v. 2-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informed her husband, v. 6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oah prayed for the angel to reappear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.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gel repeated his former instructions, v. 8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oah made an offering to the Lord; the angel ascended up in the flame, v. 15-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oah is alarmed, but comforted by the judicious reflections of his wife, v. 21-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 born; the spirit of the Lord began to move him, v. 24-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 Coming Judge –</a:t>
            </a:r>
            <a:br>
              <a:rPr sz="40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Judges 13:1-25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029200" y="47242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472428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2670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n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3352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or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3733920"/>
            <a:ext cx="2286000" cy="1295280"/>
          </a:xfrm>
          <a:prstGeom prst="line">
            <a:avLst/>
          </a:prstGeom>
          <a:ln w="5724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4572000"/>
            <a:ext cx="2286000" cy="609480"/>
          </a:xfrm>
          <a:prstGeom prst="line">
            <a:avLst/>
          </a:prstGeom>
          <a:ln w="5724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amson’s - Weaknesses And Strength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(Judges 14:1-20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 desires a Philistine for a wife, v. 1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ew a young lion at Tim’nath: later, he found bees and honey in the carcass, v. 5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’s father went to prepare for the marriage, v. 10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son made a fe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’s parents gave him thirty compan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puts forth a riddle to them which they could not exp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5:49:30Z</dcterms:created>
  <dc:creator>Terry W. Benton</dc:creator>
  <dc:description/>
  <dc:language>en-US</dc:language>
  <cp:lastModifiedBy>Frank D Vines</cp:lastModifiedBy>
  <dcterms:modified xsi:type="dcterms:W3CDTF">2005-02-27T05:44:07Z</dcterms:modified>
  <cp:revision>13</cp:revision>
  <dc:subject/>
  <dc:title>In The Days of the Judges</dc:title>
</cp:coreProperties>
</file>